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E2A-0933-4970-860F-1036A588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586-8568-4268-A88F-E962A40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35B-4AB9-4618-8F5B-71563B8E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9F6-141E-431B-B643-7DBCC937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1B31-8D31-4764-8AA1-2AD3D9CF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092D-054F-48AD-A7E1-DA573EA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2374-ACC1-45FC-B3BE-1D35B698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A5F7-7066-4F4D-9030-4853F6C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50F2-3BF7-4E58-BB00-AF5854D8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CF9-949E-4F72-8361-F9EC44D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C37-EECF-45FD-A9C6-DA90E7D2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7C9-6CEA-4E65-A223-D74BEE35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E5D-70FB-4074-903A-CDA5A9E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145D-8211-4BB6-9229-2CE2BB9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C43-84FB-474A-BC0B-726D796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D179-9B5E-4513-A84B-625E1E0E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C6A-F876-47BA-86BA-D558D877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278-5CFE-4029-9BE5-1C91D866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F10-9CF1-4AC4-9D11-3DF31C2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2DB-61DE-4455-B16B-64F0AC43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9EE-3392-4269-BB50-C58368C8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F3-B98D-4E45-AEFD-A54ABAA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3A2-4D20-4988-841D-86A86F3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386-2BF1-4897-84DE-A72B299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E27-56E8-4712-B342-FA05B63CC9C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AD5C-20C0-48B7-AD7C-105AEC2B6AAE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etry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Research/6-8/iSquad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</a:t>
            </a:r>
            <a:br>
              <a:rPr sz="4400"/>
            </a:b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itation Machine 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ighlight the citation and choose copy from the “Edit” menu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3200400" y="3276360"/>
            <a:ext cx="0" cy="19810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8640" y="990720"/>
            <a:ext cx="2438280" cy="0"/>
          </a:xfrm>
          <a:prstGeom prst="line">
            <a:avLst/>
          </a:prstGeom>
          <a:ln w="23184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ally, paste the citation into a Word document and sa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the www.poetry.com website in a new web brows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the “Poem of the Day” and use the information to fill in the form on Citation Machin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and paste the citation into a Word docu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at least 3 websites about using computers in school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the Citation Machine website to format the refere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and paste the citations into a Word document and save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use Citation Machine to format our references correct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teachers and students use Citation Machine in school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Citation Machine to help students and teachers keep track of source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already learned how the internet can be used as a tool for research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you use websites as a reference you must give the author credit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 we will learn how to keep track of our references using Citation Mach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itation Machine is a website that we can use to put our saved references in the correct forma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open the Citation Machine website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citationmachine.ne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, click on the APA format tab from the menu on the lef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228600" y="1828800"/>
            <a:ext cx="76320" cy="1371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37720" y="1704960"/>
            <a:ext cx="21337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“web page” from the Non-Print se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ll out the form with the website information and click the “Submit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215720" y="30988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838080" cy="380880"/>
          </a:xfrm>
          <a:prstGeom prst="ellipse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752480"/>
            <a:ext cx="1752480" cy="457200"/>
          </a:xfrm>
          <a:prstGeom prst="ellipse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1T19:32:16Z</dcterms:modified>
  <cp:revision>20</cp:revision>
  <dc:subject/>
  <dc:title>Workshop Title</dc:title>
</cp:coreProperties>
</file>